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9F328-C9F3-49D6-ACCB-810CE2A6B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0BACF-7D4D-46BB-B71E-C0F6DF17B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D51C9-B14F-4A24-8C5E-8FCD03EBB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1DA08-4563-408A-AE8F-43D98BCB8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1A1E9-91F1-454F-B5DC-09946391D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62577-20D2-4474-B531-1C388F6F6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0A382-FEAE-4D76-93CB-341F979E8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56B5C-321B-4CED-AAB9-2C41FA011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491E9-9669-4E8F-AAE4-FF79C5895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FC9D2-FCAA-4B4F-876D-21C0F91C7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3288E-AC2D-41B3-947E-6E9508B42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C426A-21B1-43EE-9880-E561C07CA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FAC53-AD91-4364-A59B-D643454BCF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828800" y="380880"/>
            <a:ext cx="5302080" cy="60962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676520" y="838080"/>
            <a:ext cx="5867280" cy="50770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6782040" cy="56246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828800" y="990720"/>
            <a:ext cx="5562720" cy="49528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981080" y="1447920"/>
            <a:ext cx="5029200" cy="39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752480" y="1600200"/>
            <a:ext cx="6019920" cy="39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0" spc="-1" strike="noStrike">
                <a:solidFill>
                  <a:srgbClr val="000000"/>
                </a:solidFill>
                <a:latin typeface="Century Gothic"/>
              </a:rPr>
              <a:t>am</a:t>
            </a:r>
            <a:endParaRPr b="0" lang="en-US" sz="2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905120" y="1371600"/>
            <a:ext cx="6019560" cy="39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0" spc="-1" strike="noStrike">
                <a:solidFill>
                  <a:srgbClr val="000000"/>
                </a:solidFill>
                <a:latin typeface="Century Gothic"/>
              </a:rPr>
              <a:t>the</a:t>
            </a:r>
            <a:endParaRPr b="0" lang="en-US" sz="2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1371600"/>
            <a:ext cx="7543800" cy="39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0" spc="-1" strike="noStrike">
                <a:solidFill>
                  <a:srgbClr val="000000"/>
                </a:solidFill>
                <a:latin typeface="Century Gothic"/>
              </a:rPr>
              <a:t>little</a:t>
            </a:r>
            <a:endParaRPr b="0" lang="en-US" sz="2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286000" y="533520"/>
            <a:ext cx="4676760" cy="56386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514600" y="304920"/>
            <a:ext cx="4405320" cy="60958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905120" y="380880"/>
            <a:ext cx="5481360" cy="60199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438280" y="380880"/>
            <a:ext cx="4407120" cy="61722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3T22:32:22Z</dcterms:created>
  <dc:creator>Chris Mclemore</dc:creator>
  <dc:description/>
  <dc:language>en-US</dc:language>
  <cp:lastModifiedBy>Chris Mclemore</cp:lastModifiedBy>
  <dcterms:modified xsi:type="dcterms:W3CDTF">2007-09-07T04:33:43Z</dcterms:modified>
  <cp:revision>2</cp:revision>
  <dc:subject/>
  <dc:title>PowerPoint Presentation</dc:title>
</cp:coreProperties>
</file>